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DA4A8-9C6D-436B-9BAD-9EE915555B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A7899-D228-4016-9363-839BFBCE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52A50-0E03-4BCB-8BDF-05C6CFF854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CA51-6E0A-4ABB-B162-E688E27A8BD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E7A0-C42C-495D-8C3B-0240BB4BC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456F-FBFE-4825-A77D-A3AC352D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3B32-05D1-4BBE-A9ED-3F938B4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B869-FFBC-460E-A5DC-3040B3DFA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4D7B-2F5F-4C70-BE8C-A6504C3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5DE2-DAC0-4184-9B62-1ABA706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774A-E0C3-49B9-82AD-960BD103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2E63-426A-4693-91FA-DA1394CF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98E2-E69D-45AA-92E1-782EE8C3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F55C-F241-409B-B80E-23CF7AB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52EC-D0AC-48C7-8226-57E9BE5F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1DA5-D81F-4A2A-B23B-9CEB329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0080" y="115884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F7172-310D-44C5-A0A8-ACD3B5ADA2B1}" type="datetime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17328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A7234-4CEB-4B81-96F8-81DC3E31701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МНТЦ в поддержке биологии и хими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ссия Конференции по случа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-летнего юбилея МНТ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клад</a:t>
            </a:r>
            <a:br>
              <a:rPr sz="3200"/>
            </a:br>
            <a:br>
              <a:rPr sz="21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H. Mantsch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ентар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52560" y="228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Нераспространение через научное 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5334120"/>
            <a:ext cx="6931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Оттава, Кан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10 декабря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2009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637920"/>
            <a:ext cx="5756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спублика Кыргыз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51480" y="2852640"/>
            <a:ext cx="39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428840"/>
            <a:ext cx="914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Новая «Лаборатория биологической безопасности уровня 3</a:t>
            </a:r>
            <a:r>
              <a:rPr b="0" lang="en-CA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для здоровья люде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~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40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миллионов долларов США на расширение биозащиты, биобезопасности и мер сдер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Центральный репозиторий для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объединения всех патогенных микро-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организмов «Лаборатории биологи-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ческой безопасности уровня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Уменьшение угрозы кражи или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выбросов опасных патогенных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микро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regionalmapkyrgyzrep"/>
          <p:cNvPicPr/>
          <p:nvPr/>
        </p:nvPicPr>
        <p:blipFill>
          <a:blip r:embed="rId2"/>
          <a:stretch/>
        </p:blipFill>
        <p:spPr>
          <a:xfrm>
            <a:off x="5602320" y="3693960"/>
            <a:ext cx="3541680" cy="309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-500040" y="480960"/>
            <a:ext cx="5756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Республика Кыргыз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rcRect l="21877" t="26259" r="13021" b="14874"/>
          <a:stretch/>
        </p:blipFill>
        <p:spPr>
          <a:xfrm>
            <a:off x="31680" y="1857240"/>
            <a:ext cx="682632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A scientist"/>
          <p:cNvPicPr/>
          <p:nvPr/>
        </p:nvPicPr>
        <p:blipFill>
          <a:blip r:embed="rId3"/>
          <a:stretch/>
        </p:blipFill>
        <p:spPr>
          <a:xfrm>
            <a:off x="6912000" y="3000240"/>
            <a:ext cx="216072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itle slide"/>
          <p:cNvPicPr/>
          <p:nvPr/>
        </p:nvPicPr>
        <p:blipFill>
          <a:blip r:embed="rId2"/>
          <a:stretch/>
        </p:blipFill>
        <p:spPr>
          <a:xfrm>
            <a:off x="0" y="0"/>
            <a:ext cx="9493200" cy="7121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5680" y="3230640"/>
            <a:ext cx="92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ДАВАЙТЕ РАБОТАТЬ В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legorytimetitian.jpg"/>
          <p:cNvPicPr/>
          <p:nvPr/>
        </p:nvPicPr>
        <p:blipFill>
          <a:blip r:embed="rId2"/>
          <a:stretch/>
        </p:blipFill>
        <p:spPr>
          <a:xfrm>
            <a:off x="71280" y="0"/>
            <a:ext cx="5940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929200" y="2349360"/>
            <a:ext cx="339588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Тици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ллегория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шлое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чера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тоящее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егодня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ущее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втра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929200" y="6202440"/>
            <a:ext cx="3143520" cy="369720"/>
          </a:xfrm>
          <a:prstGeom prst="rect">
            <a:avLst/>
          </a:prstGeom>
          <a:solidFill>
            <a:srgbClr val="bba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00840" y="1785960"/>
            <a:ext cx="3143160" cy="369720"/>
          </a:xfrm>
          <a:prstGeom prst="rect">
            <a:avLst/>
          </a:prstGeom>
          <a:solidFill>
            <a:srgbClr val="bba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51102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471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Биологические и химические угрозы все еще недооцениваю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Отсутствуют возможности сотруд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Unicode MS"/>
              </a:rPr>
              <a:t>Присутствует недоверие и подоз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- Об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8858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Расширить количество участвующих, организовывать совместные семин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Осуществлять обмен экспертами и соответствующими научными или обучающими материа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высить уровень доверия и прозра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омните</a:t>
            </a:r>
            <a:r>
              <a:rPr b="1" lang="en-CA" sz="28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Профилактика – это лучшее 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по улучш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ю МНТ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ТЦ следует продолжать прилагать больше усилий 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ламированию своих успехов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, чтобы не только сами ученые, но и правительства и другие ученые видели эти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о изменить процесс получения согласия Правительства принимающей стороны, чтобы позволить частным партнерам участвовать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предложили экспресс-метод для частных парт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по сокращению уг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5438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840960" indent="-420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редоточить усилия на борьбе с глобальными биологическими и химическими угрозами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лючая устойчивые органические загрязнители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елять внимание другим регионам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й Азии, Кав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 локальные угр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 п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-финансированию и правам на интеллектуальную соб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5438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версифицировать механизм софинанс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ь, как делить права на интеллектуальную собственность с многочисленными партне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ые механизмы для Правительств и частных партн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2468520"/>
            <a:ext cx="74548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«Утечка мозг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ЦИРКУЛЯЦИЯ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 МОЗГ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«Приток мозг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016600" y="4597560"/>
            <a:ext cx="1214280" cy="733320"/>
          </a:xfrm>
          <a:custGeom>
            <a:avLst/>
            <a:gdLst>
              <a:gd name="textAreaLeft" fmla="*/ 187560 w 1214280"/>
              <a:gd name="textAreaRight" fmla="*/ 90540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68308"/>
                <a:lnTo>
                  <a:pt x="21218" y="7200"/>
                </a:lnTo>
                <a:lnTo>
                  <a:pt x="16391" y="0"/>
                </a:lnTo>
                <a:lnTo>
                  <a:pt x="10800" y="7200"/>
                </a:lnTo>
                <a:lnTo>
                  <a:pt x="12960" y="7200"/>
                </a:lnTo>
                <a:arcTo wR="6671" hR="21600" stAng="2931692" swAng="1927237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5816520" y="2922480"/>
            <a:ext cx="1214640" cy="733680"/>
          </a:xfrm>
          <a:custGeom>
            <a:avLst/>
            <a:gdLst>
              <a:gd name="textAreaLeft" fmla="*/ 187560 w 1214640"/>
              <a:gd name="textAreaRight" fmla="*/ 9057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3360" y="1698480"/>
            <a:ext cx="9068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ая точка зрени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овая парадигм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72960" y="1298160"/>
            <a:ext cx="791352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дя по канату, держать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авновесие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" y="2338560"/>
            <a:ext cx="343692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м научно-техническим сотрудниче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572040" y="5241960"/>
            <a:ext cx="447228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нкуренцией на глобальном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1"/>
          <p:cNvGrpSpPr/>
          <p:nvPr/>
        </p:nvGrpSpPr>
        <p:grpSpPr>
          <a:xfrm>
            <a:off x="2894040" y="2192400"/>
            <a:ext cx="3602160" cy="3746520"/>
            <a:chOff x="2894040" y="2192400"/>
            <a:chExt cx="3602160" cy="3746520"/>
          </a:xfrm>
        </p:grpSpPr>
        <p:sp>
          <p:nvSpPr>
            <p:cNvPr id="72" name="AutoShape 10"/>
            <p:cNvSpPr/>
            <p:nvPr/>
          </p:nvSpPr>
          <p:spPr>
            <a:xfrm>
              <a:off x="2894040" y="2192400"/>
              <a:ext cx="3602160" cy="3746520"/>
            </a:xfrm>
            <a:prstGeom prst="flowChartTerminator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724560" y="3000240"/>
              <a:ext cx="137880" cy="160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619800" y="2838600"/>
              <a:ext cx="158760" cy="112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3584880" y="2652840"/>
              <a:ext cx="147600" cy="69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4562640" y="2338200"/>
              <a:ext cx="856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964320" y="2368440"/>
              <a:ext cx="765000" cy="73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4400640" y="2382840"/>
              <a:ext cx="34920" cy="1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299040" y="2521080"/>
              <a:ext cx="3193920" cy="34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151600" y="4862520"/>
              <a:ext cx="1015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2905200" y="2200320"/>
              <a:ext cx="3143520" cy="2430360"/>
            </a:xfrm>
            <a:prstGeom prst="pie">
              <a:avLst/>
            </a:prstGeom>
            <a:solidFill>
              <a:srgbClr val="bf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22"/>
          <p:cNvSpPr/>
          <p:nvPr/>
        </p:nvSpPr>
        <p:spPr>
          <a:xfrm>
            <a:off x="6415200" y="5878440"/>
            <a:ext cx="2436840" cy="652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  <a:effectLst>
            <a:outerShdw dist="40186" dir="1096358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 flipH="1" flipV="1">
            <a:off x="347400" y="4296960"/>
            <a:ext cx="3135240" cy="81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4:30Z</dcterms:created>
  <dc:creator>Владимир Помогаев</dc:creator>
  <dc:description/>
  <dc:language>en-US</dc:language>
  <cp:lastModifiedBy>User</cp:lastModifiedBy>
  <dcterms:modified xsi:type="dcterms:W3CDTF">2009-12-10T11:34:29Z</dcterms:modified>
  <cp:revision>60</cp:revision>
  <dc:subject/>
  <dc:title>Slide 1</dc:title>
</cp:coreProperties>
</file>