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2C7D3A-5D30-4F66-AA59-B5D62C5F43E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86328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7424F-DB38-43DE-9B25-09A1AD92D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2D671E-215F-4D24-9F02-51B7F58E508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48D07-B6A7-4F98-9DA3-7EF577F43C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1A390-55B4-4FA7-B75D-8AB49F91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78523-7379-4923-A564-BD266B30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A302C-3C6F-4E53-BF0B-7C5614FC38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29723-4164-4E0A-A65D-5630ABE1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BA6B3-C158-48B2-9F70-5C19D1B6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97426-B1BF-4AB3-9E5B-C67FCA47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3BC0F-480F-414B-A7EC-9408D19C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296F6-5FB2-44CD-843D-AAD135FA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E2792-E987-4BBE-9347-C09FD047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1CB86-8EAC-4213-AA5D-AC8AC789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41499-098A-4C2D-9FDB-E9A3C543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10080" y="115884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33D2D-86D2-4C7D-B2BA-FFCCC56884DC}" type="datetime">
              <a:rPr b="0" lang="en-US" sz="1400" spc="-1" strike="noStrike">
                <a:solidFill>
                  <a:srgbClr val="898989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53280" y="617328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842D2-D266-44AA-904A-F2A25801BAE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7631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TC’s Role in Supporting the Biological and Chemical Science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niversary Conference Session Report</a:t>
            </a:r>
            <a:br>
              <a:rPr sz="3200"/>
            </a:br>
            <a:br>
              <a:rPr sz="21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ry H. Mantsch (Rapporteur) </a:t>
            </a:r>
            <a:br>
              <a:rPr sz="28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952560" y="2286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1f497d"/>
                </a:solidFill>
                <a:latin typeface="Arial Black"/>
              </a:rPr>
              <a:t>Nonproliferation Through Science Co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5334120"/>
            <a:ext cx="6931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Ottawa, Can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December 10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637920"/>
            <a:ext cx="5756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Kyrgyz Repub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1280" y="1557360"/>
            <a:ext cx="7921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551480" y="2852640"/>
            <a:ext cx="39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50920" y="142884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ew “Level 3 Bio-Safety Lab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0" lang="en-CA" sz="3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r Human &amp; Anim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~$40M to enhance biosecurity, biosafety &amp; biocon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Central repository to consolidate all BSL3 pathog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Reduce threat of release or theft of dangerous patho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regionalmapkyrgyzrep"/>
          <p:cNvPicPr/>
          <p:nvPr/>
        </p:nvPicPr>
        <p:blipFill>
          <a:blip r:embed="rId2"/>
          <a:stretch/>
        </p:blipFill>
        <p:spPr>
          <a:xfrm>
            <a:off x="5530680" y="3693960"/>
            <a:ext cx="3542040" cy="3092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-500040" y="480960"/>
            <a:ext cx="57564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66"/>
                </a:solidFill>
                <a:latin typeface="Arial"/>
                <a:ea typeface="Arial"/>
              </a:rPr>
              <a:t>Kyrgyz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rcRect l="21877" t="26259" r="13021" b="14874"/>
          <a:stretch/>
        </p:blipFill>
        <p:spPr>
          <a:xfrm>
            <a:off x="31680" y="1857240"/>
            <a:ext cx="6826320" cy="3857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A scientist"/>
          <p:cNvPicPr/>
          <p:nvPr/>
        </p:nvPicPr>
        <p:blipFill>
          <a:blip r:embed="rId3"/>
          <a:stretch/>
        </p:blipFill>
        <p:spPr>
          <a:xfrm>
            <a:off x="6912000" y="3000240"/>
            <a:ext cx="2160720" cy="14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itle slide"/>
          <p:cNvPicPr/>
          <p:nvPr/>
        </p:nvPicPr>
        <p:blipFill>
          <a:blip r:embed="rId2"/>
          <a:stretch/>
        </p:blipFill>
        <p:spPr>
          <a:xfrm>
            <a:off x="0" y="0"/>
            <a:ext cx="9493200" cy="7121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85680" y="3230640"/>
            <a:ext cx="927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LET US ALL WORK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alegorytimetitian.jpg"/>
          <p:cNvPicPr/>
          <p:nvPr/>
        </p:nvPicPr>
        <p:blipFill>
          <a:blip r:embed="rId2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5929200" y="2349360"/>
            <a:ext cx="3214800" cy="34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  <a:ea typeface="Arial"/>
              </a:rPr>
              <a:t>Tiz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ff"/>
                </a:solidFill>
                <a:latin typeface="Arial"/>
                <a:ea typeface="Arial"/>
              </a:rPr>
              <a:t>Allegory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st 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Yesterday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esent 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Today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ture (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Tomorro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929200" y="6202440"/>
            <a:ext cx="3143520" cy="369720"/>
          </a:xfrm>
          <a:prstGeom prst="rect">
            <a:avLst/>
          </a:prstGeom>
          <a:solidFill>
            <a:srgbClr val="bba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6000840" y="1785960"/>
            <a:ext cx="3143160" cy="369720"/>
          </a:xfrm>
          <a:prstGeom prst="rect">
            <a:avLst/>
          </a:prstGeom>
          <a:solidFill>
            <a:srgbClr val="bba9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8543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Biological and chemical threads are still underestimated/undervalu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Opportunities for cooperation are still miss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There is still mistrust and mutual suspic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MENDATIONS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Widen engagement/commitment, organize joint workshops and semin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Exchange experts and relevant scientific or training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Increase trust and transpar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Remember: One ounce of prevention is worth a pound of c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MENDATIONS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TC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ISTC needs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to continue, and increase, efforts at publicizing its own successes.  Scientists recognize the results, but more governments and other scientists need to k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Concurrence process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ould be modified to allow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 involvement of Private Partners. We suggest a Fast Track method, for Privat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e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COMMENDATIONS –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reat Re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5438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Increase efforts to address the global biological and chemical threat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(incl. Persistent Organic Polluta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ecognize other regions of concern – Central Asia, Cauc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Identify Local Threats in these reg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COMMENDATIONS –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-Funding and IP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5438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Diversify mechanism of co-f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Identify how to share IPR with multiple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Different mechanisms for Government and Private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85800" y="2468520"/>
            <a:ext cx="745488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ff"/>
                </a:solidFill>
                <a:latin typeface="Tahoma"/>
              </a:rPr>
              <a:t>BRAIN D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0000"/>
                </a:solidFill>
                <a:latin typeface="Tahoma"/>
              </a:rPr>
              <a:t>BRAIN   </a:t>
            </a:r>
            <a:r>
              <a:rPr b="1" lang="en-CA" sz="3200" spc="-1" strike="noStrike">
                <a:solidFill>
                  <a:srgbClr val="ff0000"/>
                </a:solidFill>
                <a:latin typeface="Tahoma"/>
              </a:rPr>
              <a:t>CIR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ff"/>
                </a:solidFill>
                <a:latin typeface="Tahoma"/>
              </a:rPr>
              <a:t>BRAIN 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5016600" y="4597560"/>
            <a:ext cx="1214280" cy="733320"/>
          </a:xfrm>
          <a:custGeom>
            <a:avLst/>
            <a:gdLst>
              <a:gd name="textAreaLeft" fmla="*/ 187560 w 1214280"/>
              <a:gd name="textAreaRight" fmla="*/ 90540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68308"/>
                <a:lnTo>
                  <a:pt x="21218" y="7200"/>
                </a:lnTo>
                <a:lnTo>
                  <a:pt x="16391" y="0"/>
                </a:lnTo>
                <a:lnTo>
                  <a:pt x="10800" y="7200"/>
                </a:lnTo>
                <a:lnTo>
                  <a:pt x="12960" y="7200"/>
                </a:lnTo>
                <a:arcTo wR="6671" hR="21600" stAng="2931692" swAng="1927237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5816520" y="3289320"/>
            <a:ext cx="1214640" cy="733320"/>
          </a:xfrm>
          <a:custGeom>
            <a:avLst/>
            <a:gdLst>
              <a:gd name="textAreaLeft" fmla="*/ 187560 w 1214640"/>
              <a:gd name="textAreaRight" fmla="*/ 9057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671" hR="21600" stAng="10800000" swAng="5400000"/>
                <a:lnTo>
                  <a:pt x="12769" y="0"/>
                </a:lnTo>
                <a:arcTo wR="6671" hR="21600" stAng="-5400000" swAng="2468308"/>
                <a:lnTo>
                  <a:pt x="21218" y="14400"/>
                </a:lnTo>
                <a:lnTo>
                  <a:pt x="16391" y="21600"/>
                </a:lnTo>
                <a:lnTo>
                  <a:pt x="10800" y="14400"/>
                </a:lnTo>
                <a:lnTo>
                  <a:pt x="12960" y="14400"/>
                </a:lnTo>
                <a:arcTo wR="6671" hR="21600" stAng="-2931692" swAng="-1927237"/>
                <a:lnTo>
                  <a:pt x="9720" y="2388"/>
                </a:lnTo>
                <a:arcTo wR="6671" hR="21600" stAng="-5941071" swAng="-4858929"/>
                <a:close/>
              </a:path>
              <a:path fill="darkenLess" w="21600" h="21600">
                <a:moveTo>
                  <a:pt x="0" y="21600"/>
                </a:moveTo>
                <a:arcTo wR="6671" hR="21600" stAng="10800000" swAng="5400000"/>
                <a:lnTo>
                  <a:pt x="6671" y="0"/>
                </a:lnTo>
                <a:arcTo wR="6671" hR="21600" stAng="-5400000" swAng="541071"/>
                <a:lnTo>
                  <a:pt x="9720" y="2388"/>
                </a:lnTo>
                <a:arcTo wR="6671" hR="21600" stAng="-5941071" swAng="-4858929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3360" y="1698480"/>
            <a:ext cx="9068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different perspective (a new paradig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669680"/>
            <a:ext cx="8832960" cy="33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CA" sz="2000" spc="-1" strike="noStrike">
                <a:solidFill>
                  <a:srgbClr val="ff0000"/>
                </a:solidFill>
                <a:latin typeface="Tahoma"/>
              </a:rPr>
              <a:t>Walking  a tightrope between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39560" y="2786040"/>
            <a:ext cx="285912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ff"/>
                </a:solidFill>
                <a:latin typeface="Tahoma"/>
              </a:rPr>
              <a:t>Interna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ff"/>
                </a:solidFill>
                <a:latin typeface="Tahoma"/>
              </a:rPr>
              <a:t>Coop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CA" sz="2800" spc="-1" strike="noStrike">
                <a:solidFill>
                  <a:srgbClr val="0000ff"/>
                </a:solidFill>
                <a:latin typeface="Tahoma"/>
              </a:rPr>
              <a:t>in S&amp;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572040" y="5000760"/>
            <a:ext cx="4472280" cy="12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ff"/>
                </a:solidFill>
                <a:latin typeface="Tahoma"/>
              </a:rPr>
              <a:t>Competition in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ff"/>
                </a:solidFill>
                <a:latin typeface="Tahoma"/>
              </a:rPr>
              <a:t>Global Mar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Group 11"/>
          <p:cNvGrpSpPr/>
          <p:nvPr/>
        </p:nvGrpSpPr>
        <p:grpSpPr>
          <a:xfrm>
            <a:off x="2894040" y="2192400"/>
            <a:ext cx="3602160" cy="3746520"/>
            <a:chOff x="2894040" y="2192400"/>
            <a:chExt cx="3602160" cy="3746520"/>
          </a:xfrm>
        </p:grpSpPr>
        <p:sp>
          <p:nvSpPr>
            <p:cNvPr id="72" name="AutoShape 10"/>
            <p:cNvSpPr/>
            <p:nvPr/>
          </p:nvSpPr>
          <p:spPr>
            <a:xfrm>
              <a:off x="2894040" y="2192400"/>
              <a:ext cx="3602160" cy="3746520"/>
            </a:xfrm>
            <a:prstGeom prst="flowChartTerminator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3724560" y="3000240"/>
              <a:ext cx="137880" cy="160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buClr>
                  <a:srgbClr val="000066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3619800" y="2838600"/>
              <a:ext cx="158760" cy="1126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buClr>
                  <a:srgbClr val="000066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3584880" y="2652840"/>
              <a:ext cx="147600" cy="698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buClr>
                  <a:srgbClr val="000066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4562640" y="2338200"/>
              <a:ext cx="8568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buClr>
                  <a:srgbClr val="000066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3964320" y="2368440"/>
              <a:ext cx="765000" cy="73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buClr>
                  <a:srgbClr val="000066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4400640" y="2382840"/>
              <a:ext cx="34920" cy="1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buClr>
                  <a:srgbClr val="000066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3299040" y="2521080"/>
              <a:ext cx="3193920" cy="341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buClr>
                  <a:srgbClr val="000066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5151600" y="4862520"/>
              <a:ext cx="10152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buClr>
                  <a:srgbClr val="000066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2905200" y="2200320"/>
              <a:ext cx="3143520" cy="2430360"/>
            </a:xfrm>
            <a:prstGeom prst="pie">
              <a:avLst/>
            </a:prstGeom>
            <a:solidFill>
              <a:srgbClr val="bf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buClr>
                  <a:srgbClr val="000066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Freeform 22"/>
          <p:cNvSpPr/>
          <p:nvPr/>
        </p:nvSpPr>
        <p:spPr>
          <a:xfrm>
            <a:off x="6415200" y="5878440"/>
            <a:ext cx="2436840" cy="6526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  <a:effectLst>
            <a:outerShdw dist="40186" dir="1096358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"/>
          <p:cNvSpPr/>
          <p:nvPr/>
        </p:nvSpPr>
        <p:spPr>
          <a:xfrm flipH="1" flipV="1">
            <a:off x="347400" y="4296960"/>
            <a:ext cx="3135240" cy="81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1:14:30Z</dcterms:created>
  <dc:creator>Владимир Помогаев</dc:creator>
  <dc:description/>
  <dc:language>en-US</dc:language>
  <cp:lastModifiedBy>User</cp:lastModifiedBy>
  <dcterms:modified xsi:type="dcterms:W3CDTF">2009-12-10T11:33:43Z</dcterms:modified>
  <cp:revision>35</cp:revision>
  <dc:subject/>
  <dc:title>Slide 1</dc:title>
</cp:coreProperties>
</file>