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E311-3CBF-4249-99A1-E0F7F4AC7B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7E05-B092-4EAB-B934-2113BCF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9DBE-66C8-41CD-BFA0-78CCCE2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FBD1-9625-4B60-8598-EEADA6279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9318-67CA-4CF9-9741-DFC85B5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7FEC-77F8-4897-BA59-45A4F690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917B-D80C-4F00-889B-83ED9736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3F000-B8AD-40B4-B8C1-E5A015C7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7A09-7FCC-4116-91BD-129D2F9B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9DEF-D94F-4C26-90CA-D3021DAC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C157-D61D-459D-9BE1-91B07BD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3A8E-6EE3-4494-B434-ECDFA399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0080" y="115884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B8169-88A6-4363-9349-56AF157A3DE7}" type="datetime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17328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EF0E6-8DC8-42BB-80E7-91218A8BC9E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ВКЛАД МНТЦ В ПРИКЛАДНЫЕ ТЕХНОЛОГ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imes New Roman"/>
              </a:rPr>
              <a:t>ВЧЕРА, СЕГОДНЯ, ЗАВТ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М.Майкл Айник, Пос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Заместитель исполнительного дирек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Департамент партнерства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торая область технологий: НОВЫЕ МАТЕРИА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иоритет в этой области – нано материалы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Нано - компози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Нано - поро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еталлы с нано кристаллической структу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 поддерживает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&gt;30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оектов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 области нано материалов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общим объемом средств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евышающим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11 Мл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Некоторые примеры проек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-1695: Прозрачные проводящие наноматериалы для солнечных эле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-1708: Наноуглерод в электромагнитных приложе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424: Газовые сенсоры на основе нанокомпози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230: Наноуглеродные электрохимические биосенс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245: Бионанотехнология для обнаружения бактер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ЧЕРА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Рис7"/>
          <p:cNvPicPr/>
          <p:nvPr/>
        </p:nvPicPr>
        <p:blipFill>
          <a:blip r:embed="rId2"/>
          <a:stretch/>
        </p:blipFill>
        <p:spPr>
          <a:xfrm>
            <a:off x="152280" y="2971800"/>
            <a:ext cx="4638960" cy="321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9144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СЕГОДНЯ: ИСТОРИЯ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19120"/>
            <a:ext cx="93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Уфимский Государственный Авиационный Технический Университет и ВНИИЭФ, Саров учредили ООО «Наномет» и ООО «Инновационные технологии» для производства нано – титана для медицинского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91240" y="3581280"/>
            <a:ext cx="48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Обычный титан,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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3.5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mm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Timplant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®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4708440"/>
            <a:ext cx="48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Наноструктурированный титан,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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2.4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мм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Nanoimplant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®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  <a:ea typeface="ヒラギノ角ゴ Pro W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5543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Демонстрируется на выста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08360" y="2928960"/>
            <a:ext cx="47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томатологический импл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Укрепление сотрудничества с национальными агентств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Фокусироваться на коммерциализации технологий и инноваций в области нано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762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-5040" y="876240"/>
            <a:ext cx="68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3-я область технологии: 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662120"/>
            <a:ext cx="29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ЧЕ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819520"/>
            <a:ext cx="784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154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оекта в области здравоохранения (медицина и приборы) завершены на общую сумму более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$47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Млн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72 –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ыполняются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 с общим объемом финансирования более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$31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л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04920" y="685800"/>
            <a:ext cx="725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ЕГОДНЯ: ИСТОРИЯ УСПЕ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6119" r="0" b="0"/>
          <a:stretch/>
        </p:blipFill>
        <p:spPr>
          <a:xfrm>
            <a:off x="106200" y="2057400"/>
            <a:ext cx="1641600" cy="3657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5493" r="0" b="0"/>
          <a:stretch/>
        </p:blipFill>
        <p:spPr>
          <a:xfrm>
            <a:off x="1908000" y="2057400"/>
            <a:ext cx="16272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6118" r="0" b="0"/>
          <a:stretch/>
        </p:blipFill>
        <p:spPr>
          <a:xfrm>
            <a:off x="3670200" y="2057400"/>
            <a:ext cx="165096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943600" y="28195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86400" y="144612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Автоматизированный прибор для удлинения конеч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57150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емонстрируется на выста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200" y="1143000"/>
            <a:ext cx="53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Times New Roman"/>
              </a:rPr>
              <a:t>Коррекция длины конечностей: до, вовремя и после использования 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480" y="1676520"/>
            <a:ext cx="7848360" cy="4505040"/>
            <a:chOff x="609480" y="1676520"/>
            <a:chExt cx="7848360" cy="450504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09480" y="1676520"/>
              <a:ext cx="1465200" cy="32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2074680" y="1676520"/>
              <a:ext cx="6383160" cy="45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609480" y="4060800"/>
              <a:ext cx="2260440" cy="20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609480" y="1676520"/>
            <a:ext cx="7848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Ч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НТЦ разработал систему продвижения инновационных технологий на рынок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НТЦ продемонстрировал эффективность в продвижении инноваций на национальном и международном рын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Text Placeholder 2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3818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1600200"/>
            <a:ext cx="83818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ЗАВ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ивлечение национальных и международных инвес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мощь институтам в подготовке документов для участия в конкурсе на финансирование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возное управление проектами от исследований до коммерциализации с использованием лучших международных станда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ОКРУЖАЮЩАЯ СРЕ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иоритетные области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Загрязнение воды и его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Загрязнение воздуха и его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осстановление и дезактив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ЧЕ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340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оектов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($97.417.611)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ыполнены и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89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ыполняются с общим финансированием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$36.120.1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56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роектов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($12.907.055)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завершены и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22 ($7.002.561)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ыполняются в области технологий водоочистки и контр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2362320"/>
          <a:ext cx="8877240" cy="3441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8772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560" y="1461960"/>
            <a:ext cx="91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Распределение проектов по областям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СЕГОД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История успеха – пилотное производство мембран и систем водоочис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наноструктура%20мембраны" descr=""/>
          <p:cNvPicPr/>
          <p:nvPr/>
        </p:nvPicPr>
        <p:blipFill>
          <a:blip r:embed="rId2"/>
          <a:stretch/>
        </p:blipFill>
        <p:spPr>
          <a:xfrm>
            <a:off x="412920" y="3276720"/>
            <a:ext cx="2820960" cy="2849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505320" y="37339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Нано – структурированная мембрана – ключевой элемент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финкс%2007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184120" cy="4394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00400" y="1468440"/>
            <a:ext cx="61722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Удаляет механические частицы размером более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0.1 - 0.3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Очищает от органики и соединений мет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роизводительность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– 500 – 700 l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Ресурс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– 175,000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рок службы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– 1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Демонстрируется на выста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44280" y="87804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истема очитки воды «Сфинкс – 0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Неядерная энергет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Альтернативная энергетика и ее эффекти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Водородная экономика – приоритетное направление в странах сторон МНТ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роизводстве и хранении водо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Технологии топливных эле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Использовании обогащенного водородом топлива в производстве энергии и на транспор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Сотрудничающие с МНТЦ институты имеют опыт 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офинансировано более 60 проектов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на общую сумму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&gt;$5,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5 мл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ервая Целевая инициатива МНТЦ «Топливные элементы» находится в завершающей ф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Инновационные технологии из ЦИ демонстрировались на выставке в Ганновере и в результа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одписан контракт Институтом катализа им. Борескова с российской группой АДД в области реформирования попутного нефтян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Установлено сотрудничество с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International Advanced Research Center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в производстве водорода и  технологии топливных элем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9129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ЧЕРА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1030422" descr=""/>
          <p:cNvPicPr/>
          <p:nvPr/>
        </p:nvPicPr>
        <p:blipFill>
          <a:blip r:embed="rId2"/>
          <a:stretch/>
        </p:blipFill>
        <p:spPr>
          <a:xfrm>
            <a:off x="203040" y="1219320"/>
            <a:ext cx="3233880" cy="483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1539720"/>
            <a:ext cx="56386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Изготовлена энергоустановка мощностью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 kW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в лаборатории ВНИИЭФ, которая будет проходить полевые испытания на площадке Газп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олевые испытания запланировано начать в декабре этого года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Газпром будет основным инвестором производства установок после испытаний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8985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СЕГОДНЯ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Безымянный" descr=""/>
          <p:cNvPicPr/>
          <p:nvPr/>
        </p:nvPicPr>
        <p:blipFill>
          <a:blip r:embed="rId2"/>
          <a:stretch/>
        </p:blipFill>
        <p:spPr>
          <a:xfrm>
            <a:off x="304920" y="1635120"/>
            <a:ext cx="3295440" cy="4491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84560"/>
            <a:ext cx="6553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Другое Н</a:t>
            </a:r>
            <a:r>
              <a:rPr b="0" lang="ru-RU" sz="3200" spc="-1" strike="noStrike" baseline="-25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инновационное решение: 160Вт установка 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ВТ ПОМТ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585800"/>
            <a:ext cx="5410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Энергоустановка на высокотемпературных протоно-обменных топливных  элементах: портативна, легко обслуживается, имеет длительный срок службы, идеальна для удаленных регионов, полевых миссий и как резервный источник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Другие достоинства: низкая стоимость расходных материалов, использует около 2-х г/мин смеси воды и метанола, ожидаемый срок службы не менее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20,000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час (более 2-х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</a:rPr>
              <a:t>Ведется разработка предкоммерческого образца на 300 В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Демонстрируется в работе на выста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115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482840"/>
            <a:ext cx="4995360" cy="4147920"/>
            <a:chOff x="0" y="1482840"/>
            <a:chExt cx="4995360" cy="41479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13520" y="1954080"/>
              <a:ext cx="4256640" cy="30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flipV="1">
              <a:off x="509760" y="3839760"/>
              <a:ext cx="1427400" cy="1508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5348160"/>
              <a:ext cx="101952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900" spc="-1" strike="noStrike">
                  <a:solidFill>
                    <a:srgbClr val="c0504d"/>
                  </a:solidFill>
                  <a:latin typeface="Times New Roman"/>
                </a:rPr>
                <a:t>Газовые инжекто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344680" y="3179160"/>
              <a:ext cx="917640" cy="2073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3040" y="5253840"/>
              <a:ext cx="132516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900" spc="-1" strike="noStrike">
                  <a:solidFill>
                    <a:srgbClr val="c0504d"/>
                  </a:solidFill>
                  <a:latin typeface="Times New Roman"/>
                </a:rPr>
                <a:t>Линия подачи сингаз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19160" y="1671120"/>
              <a:ext cx="611640" cy="1508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19520" y="1482840"/>
              <a:ext cx="1427400" cy="1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900" spc="-1" strike="noStrike">
                  <a:solidFill>
                    <a:srgbClr val="c0504d"/>
                  </a:solidFill>
                  <a:latin typeface="Times New Roman"/>
                </a:rPr>
                <a:t>Блок управления генератор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179960" y="2990880"/>
              <a:ext cx="0" cy="2356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200" y="5348160"/>
              <a:ext cx="132516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900" spc="-1" strike="noStrike">
                  <a:solidFill>
                    <a:srgbClr val="c0504d"/>
                  </a:solidFill>
                  <a:latin typeface="Times New Roman"/>
                </a:rPr>
                <a:t>Генератор сингаз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" name=""/>
          <p:cNvGraphicFramePr/>
          <p:nvPr/>
        </p:nvGraphicFramePr>
        <p:xfrm>
          <a:off x="5148360" y="3249720"/>
          <a:ext cx="3995640" cy="2287440"/>
        </p:xfrm>
        <a:graphic>
          <a:graphicData uri="http://schemas.openxmlformats.org/drawingml/2006/table">
            <a:tbl>
              <a:tblPr/>
              <a:tblGrid>
                <a:gridCol w="1557360"/>
                <a:gridCol w="1269720"/>
                <a:gridCol w="1168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Топл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Эми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Природный га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ПГ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+ </a:t>
                      </a: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син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O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H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3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0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Расход топлива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30000">
                          <a:solidFill>
                            <a:srgbClr val="3333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/10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79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Автомобиль «Газель» с генератором синг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482840"/>
            <a:ext cx="451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ЗЕЛЬ – технология, которая может быть использована для любого бензинового или другого не дизельного двигателя для увеличения КПД и уменьшения вредных выбр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МНТЦ: ВЧЕРА, СЕГОДНЯ, ЗАВ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951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Помощь институтам в коммерциализации разработанных техноло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Основываясь на достигнутых успехах в водородных технологиях готовится предложение по новой Целевой инициативе «Синтезгаз для производства энергии и на транспорте». Предложение будет направлено на рассмотрение Сторонам к следующему 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1371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ЗАВТРА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14:30Z</dcterms:created>
  <dc:creator>Владимир Помогаев</dc:creator>
  <dc:description/>
  <dc:language>en-US</dc:language>
  <cp:lastModifiedBy>Emelyanov</cp:lastModifiedBy>
  <dcterms:modified xsi:type="dcterms:W3CDTF">2009-12-07T14:58:00Z</dcterms:modified>
  <cp:revision>154</cp:revision>
  <dc:subject/>
  <dc:title>Slide 1</dc:title>
</cp:coreProperties>
</file>