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102475" cy="9047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BDED-1997-46B8-AB64-FB8B4B3F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2226-C150-4D87-B0E4-2CA75D7F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D070-9ABF-4563-9D35-3CA141A6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EB81-56F9-4125-A610-FBC960EA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5B11-8DC2-4F86-8E14-3D7DA706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2E43-315A-4FF5-9AED-C55742C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C260-B12C-4ADC-A72E-6E0AB70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7A2-C53D-4FEF-B2A9-B0F3B9AF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A6E5-D4AB-4C13-8041-109A7A2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6605-A33E-4077-B17A-7A78B1AD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1551-A2DA-4000-A84D-00CD497C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17B7-3863-4612-89D0-0135966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879C-500A-4A9B-B0B2-9C8DE0C3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0F74-DCAB-4867-B8C6-DA69343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7848-F1D3-4755-A70B-2394BD50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A29-C054-4D28-9FDB-E8D8D74C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3A99-1253-4E8B-9901-2AB85E4E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E639-F3C3-4E6D-864B-C71C554D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36DE-64B8-4ABE-B75B-8C6FCDA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A654-022D-4F82-8695-6218DE16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E56B-A550-419A-BABA-D6FB01E7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6ED4-A846-4B18-BBD7-AF030ED5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CD51-6696-499E-8879-81A45CD3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D0CB-13F9-416F-882C-B000C66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AA8-D624-4F1E-A0E5-1CB8C9E0B8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82B7-9386-47B4-9DB0-73395D113F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dfdef6"/>
                </a:solidFill>
                <a:latin typeface="Arial"/>
              </a:rPr>
              <a:t>The Value of ISTC for the Other Countries of the CI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ademician R.Martirosy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id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7238880" y="0"/>
          <a:ext cx="19051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0"/>
                    <a:ext cx="19051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"/>
          <p:cNvSpPr/>
          <p:nvPr/>
        </p:nvSpPr>
        <p:spPr>
          <a:xfrm>
            <a:off x="4038480" y="54100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cademy of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ublic of Arm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ember 10, 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Partner Projects Financ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($ mln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533520" y="1219320"/>
          <a:ext cx="8229600" cy="525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219320"/>
                    <a:ext cx="82296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7FFA-5797-4A67-BACB-B444A01EBC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ommercialization Initiatives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762120" y="1143000"/>
          <a:ext cx="7467480" cy="5637240"/>
        </p:xfrm>
        <a:graphic>
          <a:graphicData uri="http://schemas.openxmlformats.org/drawingml/2006/table">
            <a:tbl>
              <a:tblPr/>
              <a:tblGrid>
                <a:gridCol w="3240000"/>
                <a:gridCol w="2246400"/>
                <a:gridCol w="19810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 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rojec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8 640 1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m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824 4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yrgyzst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297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B9C7-86F1-46D6-AB20-A9886BF674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Main Result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2860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Total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CIS 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funding in all categories surpasses $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178.38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m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ln.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for more than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670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projects.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Total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CIS Partner 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funding surpasses $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36.37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m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ln.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for more than </a:t>
            </a: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110</a:t>
            </a: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 projec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24 Commercialization Initiatives are being implemented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Number of beneficiary scientists from CIS since  the start of activity is around 16,500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dfdef6"/>
                </a:solidFill>
                <a:latin typeface="Arial"/>
              </a:rPr>
              <a:t>Memorandums of Understanding on Co-Financing were signed with Armenia, Belarus, Georgia, Kyrgystan, Tajikist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C99B-E446-4229-833F-EEC89BC093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fdef6"/>
                </a:solidFill>
                <a:latin typeface="Arial"/>
              </a:rPr>
              <a:t>Vision of the Future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22860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2021760"/>
            <a:ext cx="8610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Ge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Rejuven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rojects Particip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Labora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ners Number 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ment and Materials Expenses Incr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 Collabo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of Branch Of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293B-A740-43FE-9C62-E7EEDEA56F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THANK YOU!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38080" y="1905120"/>
            <a:ext cx="754380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ademician Radik Martirosy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cademy of Scie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ublic of Arm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rshal Bagramyan Avenue, 2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revan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menia, 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l: (374 10)-52-70-31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x (374 10)-58-45-8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-.mail: president@sci.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ww.sci.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DBD2-783E-42BB-8365-F1D38E4BE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Beginning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228600" y="1181520"/>
            <a:ext cx="86868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ARMENIA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- Y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an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sics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titute 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vember 01,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1995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BELARU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Institute of Radiation Physics and Chemistry Problems – March 01,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GEORG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- Tbilisi State University / Research and Development Complex Electron Technology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ptember 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199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KAZAKHSTA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National Nuclear Center of the Republic of Kazakstan / Institute of Atomic Energy 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gust 01,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199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KYRGYZSTAN 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Kyrgyz-Russian Slavonic Univers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November 01,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19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TAJIKISTAN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-Technical Institute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gust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0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2003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9094-1B91-4B55-B66F-583A729EEB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Number of Submitted Projects </a:t>
            </a:r>
            <a:br>
              <a:rPr sz="3200"/>
            </a:b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09480" y="1219320"/>
          <a:ext cx="8077320" cy="5200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219320"/>
                    <a:ext cx="80773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BDDF-4169-4630-A836-80C41CEA1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533520" y="1676520"/>
          <a:ext cx="8229600" cy="453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676520"/>
                    <a:ext cx="82296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0" y="304920"/>
            <a:ext cx="74674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Volume of Projects Financing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($ ml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6248520"/>
            <a:ext cx="7238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60AA-59EC-405F-9533-81F7988B72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304920" y="1523880"/>
          <a:ext cx="8534160" cy="495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8534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"/>
          <p:cNvSpPr/>
          <p:nvPr/>
        </p:nvSpPr>
        <p:spPr>
          <a:xfrm>
            <a:off x="8380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 Dynamic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$ml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98AE-E7A3-457B-8575-60D56D4BF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8380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 Dynamics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$ml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28600" y="1219320"/>
          <a:ext cx="8686800" cy="5286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19320"/>
                    <a:ext cx="868680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564A-5274-4372-8F0F-CD4CC7E781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Technology Areas Financing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$mln.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33520" y="1371600"/>
          <a:ext cx="8001000" cy="448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371600"/>
                    <a:ext cx="8001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 flipV="1" rot="10800000">
            <a:off x="-1440" y="5882400"/>
            <a:ext cx="914400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GR –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griculture,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BIO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Biotechnology and Life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Chemistry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Environment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I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Fission Reactors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U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Fu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F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Information and Communication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Instrumentation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Manufacturing Technology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Materials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 Medicine,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Non Nuclear Energy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H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Other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Physics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T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ace,aircraft and surface transpor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F1EC5-1E2D-42A8-B9D5-EB269015C2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SP Projects Financing </a:t>
            </a:r>
            <a:br>
              <a:rPr sz="3200"/>
            </a:b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($ thousands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09480" y="1752480"/>
          <a:ext cx="8001000" cy="4557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752480"/>
                    <a:ext cx="800100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5AF3-185F-46DA-9093-09A6CE6DB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Support Program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6905520" y="0"/>
          <a:ext cx="223848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5520" y="0"/>
                    <a:ext cx="2238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 txBox="1"/>
          <p:nvPr/>
        </p:nvSpPr>
        <p:spPr>
          <a:xfrm>
            <a:off x="380880" y="1600200"/>
            <a:ext cx="83059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ent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hops and Seminars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ency Buil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162B-D7B8-45F8-9844-D6A37AE7C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6:28:13Z</dcterms:created>
  <dc:creator/>
  <dc:description/>
  <dc:language>en-US</dc:language>
  <cp:lastModifiedBy>Leonova</cp:lastModifiedBy>
  <dcterms:modified xsi:type="dcterms:W3CDTF">2009-12-03T08:46:58Z</dcterms:modified>
  <cp:revision>58</cp:revision>
  <dc:subject/>
  <dc:title> The Value of ISTC for the Other Countries of the CIS</dc:title>
</cp:coreProperties>
</file>