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0E37-1DE8-44BF-A8DD-63818667FF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1A39-517F-4341-B35E-C31A3262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7A071-986A-40EB-A8FA-4612C5A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CB96-90E3-491E-8D86-FDB863D0F1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FECF-0D26-41D5-AE38-F101AEFD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3B8A-0278-42A6-9B68-DDB3686A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3892-FCAB-4CA6-B4D8-29B77A8D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12169-919D-4075-9784-57FF9571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7AB6-1695-427D-80D3-7A018318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A839-99CE-4388-A751-D89A06B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D2A4-15E8-4D58-8A7B-80B8318B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2A1D-0534-4793-B273-E26F9137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0080" y="115884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3B209-C54E-4F60-AE0E-0666EC600D4B}" type="datetime"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3280" y="617328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CD66D-F2B2-41DE-BAEB-627C0431333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inik@istc.ru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ISTC Impact On Applied Technologi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Yesterday, Today, Tomorro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assador M.Michael Ein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puty Executive Direc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artnering and Sustainability Depar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e first priority in this area is nano materi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ano compo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ano pow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ano crystal me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221760" y="1265400"/>
            <a:ext cx="63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2nd Technology Area: New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 has supported &gt;30 projects related to Nano Materials with total funding exceeding $11M.  Some examples of project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ject A-1695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parent Conductive Nanomaterials for Solar 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ject B-1708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nocarbon in Electromagnetic Appl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ject 3424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nocomposite Gas Sens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ject 3230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nocarbon electrochemical biosens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ject 3245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onanotechnology for Bacteria Det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7680"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020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YESTER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Рис7"/>
          <p:cNvPicPr/>
          <p:nvPr/>
        </p:nvPicPr>
        <p:blipFill>
          <a:blip r:embed="rId2"/>
          <a:stretch/>
        </p:blipFill>
        <p:spPr>
          <a:xfrm>
            <a:off x="152280" y="2971800"/>
            <a:ext cx="4373640" cy="321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914400"/>
            <a:ext cx="54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ODAY: SUCCES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555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fa State Aviation Technical University and VNIIEF, Sarov created LLC NanoMeT and LLC Innovation Technologies for production of nano titanium  medical appliances, e.g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62640" y="3581280"/>
            <a:ext cx="454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CONVENTIONAL TITANIUM</a:t>
            </a:r>
            <a:r>
              <a:rPr b="0" lang="ru-RU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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3.5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mm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Timplant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®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70844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NANOSTRUCTURED TITANIU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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2.4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mm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Nanoimplant</a:t>
            </a:r>
            <a:r>
              <a:rPr b="0" lang="ru-MD" sz="2000" spc="-1" strike="noStrike">
                <a:solidFill>
                  <a:srgbClr val="3333ff"/>
                </a:solidFill>
                <a:latin typeface="Times New Roman"/>
                <a:ea typeface="ヒラギノ角ゴ Pro W6"/>
              </a:rPr>
              <a:t>®</a:t>
            </a:r>
            <a:r>
              <a:rPr b="0" lang="ru-MD" sz="1800" spc="-1" strike="noStrike">
                <a:solidFill>
                  <a:srgbClr val="000000"/>
                </a:solidFill>
                <a:latin typeface="Times New Roman"/>
                <a:ea typeface="ヒラギノ角ゴ Pro W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92280" y="5727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amples are on display in the exhibitio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7920" y="292896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Dental Im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914400"/>
            <a:ext cx="54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09680"/>
            <a:ext cx="7391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engthening cooperation with national agenc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Focus on commercialization of nano material technologies and inno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159480" y="1165320"/>
            <a:ext cx="56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Technology Area: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2241720"/>
            <a:ext cx="29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YESTERDA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246480"/>
            <a:ext cx="7848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154 completed projects related to human health care (medicines and devices) totaling  more than $47M in fund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72 ongoing projects in human health care with more than $31M in fu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" y="914400"/>
            <a:ext cx="725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ODAY: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SUCCESS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6119" r="0" b="0"/>
          <a:stretch/>
        </p:blipFill>
        <p:spPr>
          <a:xfrm>
            <a:off x="133200" y="1981080"/>
            <a:ext cx="1641600" cy="3657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5493" r="0" b="0"/>
          <a:stretch/>
        </p:blipFill>
        <p:spPr>
          <a:xfrm>
            <a:off x="1908000" y="1981080"/>
            <a:ext cx="16272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6118" r="0" b="0"/>
          <a:stretch/>
        </p:blipFill>
        <p:spPr>
          <a:xfrm>
            <a:off x="3670200" y="1981080"/>
            <a:ext cx="165096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867280" y="2638440"/>
            <a:ext cx="266724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21160" y="169236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utomated device for lengthening human 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45200" y="5638680"/>
            <a:ext cx="38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Times New Roman"/>
              </a:rPr>
              <a:t>Device on display in the exhibition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67652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Times New Roman"/>
              </a:rPr>
              <a:t>Limb Length Discrepancy (LLD) before, during and after device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876240"/>
            <a:ext cx="29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76520"/>
            <a:ext cx="7848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mproved integration of Russian/CIS human and animal disease surveillance and treatment efforts with international networks for diseases such as: influenza, TB, AID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ntegration of Russian, CIS countries and Georgian institutes with international health care scientific research and commercial s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upport for international accreditation and certification of ISTC beneficiary instit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Commercialization support for Russian/CIS heath care inno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351240"/>
            <a:ext cx="7391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9480" y="1676520"/>
            <a:ext cx="7848360" cy="4505040"/>
            <a:chOff x="609480" y="1676520"/>
            <a:chExt cx="7848360" cy="450504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09480" y="1676520"/>
              <a:ext cx="1465200" cy="32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2074680" y="1676520"/>
              <a:ext cx="6383160" cy="45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609480" y="4060800"/>
              <a:ext cx="2260440" cy="20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609480" y="1676520"/>
            <a:ext cx="7848720" cy="46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ESTER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STC has developed mechanisms for supporting and managing innovative technologies through R&amp;D pro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STC focuses on bringing these innovations to domestic and international marke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and promoting their commercial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Text Placeholder 2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651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1600200"/>
            <a:ext cx="8991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MORR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ttract domestic and international investors from both the public and private s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cus R&amp;D support on current and future societal needs: sustainable resources, renewable energy, environmental issues, health ca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sist recipient institutes in their efforts to find independent and sustainable sources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novate ISTC mechanisms to better serve stakeholders and respond to market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HANK YOU VERY MUCH FOR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mbassador M.Michael Ein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Deputy Executive Direc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E-mail: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einik@istc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hone: 7+495+98231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www.istc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2362320"/>
          <a:ext cx="8877240" cy="3441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62320"/>
                    <a:ext cx="88772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560" y="1461960"/>
            <a:ext cx="85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rojects distribution by technology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3333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Technology Area: Environ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iority ar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ater pollution and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ir pollution and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clamation and de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YESTERD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340 projects related to environmental technologies have been completed with total funding in excess of $97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urrently there are 89 ongoing environmentally related projects funded with more than $36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ODAY:Success S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ilot production of Membrane Systems for Water Clean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наноструктура%20мембраны" descr=""/>
          <p:cNvPicPr/>
          <p:nvPr/>
        </p:nvPicPr>
        <p:blipFill>
          <a:blip r:embed="rId2"/>
          <a:stretch/>
        </p:blipFill>
        <p:spPr>
          <a:xfrm>
            <a:off x="412920" y="3276720"/>
            <a:ext cx="2820960" cy="2849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05320" y="3733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Nano-structural membrane – the key element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Сфинкс%2007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184480" cy="4394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0400" y="1981080"/>
            <a:ext cx="579132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moves particles &gt;0.1 - 0.3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μm which includes most bacteria and 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moves organic and metal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apacity – 500 – 700 l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source – 175,0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Lifetime –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Demonstration of device in the exhibition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31320" y="88884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ater cleaning system “Sphyncs – 07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Non Nuclear Ener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lternative energy and energy effici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Hydrogen economy is a priority for ISTC Party count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Times New Roman"/>
              </a:rPr>
              <a:t>ISTC affiliated institutes have expertise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ydrogen production and sto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uel cell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Use of hydrogen enriched gas in power production and tran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STC has supported &gt;60 H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related projects with combined funding of &gt;$5.5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rst ISTC Targeted Initiative “Fuel Cell” is in its final stages of com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nnovations from the Fuel Cell TI were demonstrated at the Hannover Tech Fair, resulting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 contract between Boreskov Institute of Catalyst and the Russian JSC ADD in the area of reforming waste gas from oil w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he establishment of formal cooperation between International Advanced Research Center and Russian institute in the areas of hydrogen production and fuel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YESTER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1030422" descr=""/>
          <p:cNvPicPr/>
          <p:nvPr/>
        </p:nvPicPr>
        <p:blipFill>
          <a:blip r:embed="rId2"/>
          <a:stretch/>
        </p:blipFill>
        <p:spPr>
          <a:xfrm>
            <a:off x="203040" y="1219320"/>
            <a:ext cx="3233880" cy="483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05320" y="2057400"/>
            <a:ext cx="54864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ssembly of a Fuel Cell Pilot Power Plant with 5 kW capacity at VNIIEF lab for  field test at a Gazprom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eld tests in December 2009, after which Gazprom will be the main investor for a production facility to manufacture the Fuel Cell Power Pl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8985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TOD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Безымянный" descr=""/>
          <p:cNvPicPr/>
          <p:nvPr/>
        </p:nvPicPr>
        <p:blipFill>
          <a:blip r:embed="rId2"/>
          <a:stretch/>
        </p:blipFill>
        <p:spPr>
          <a:xfrm>
            <a:off x="304920" y="1635120"/>
            <a:ext cx="3295440" cy="449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519120"/>
            <a:ext cx="520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nother H</a:t>
            </a:r>
            <a:r>
              <a:rPr b="0" lang="en-US" sz="2800" spc="-1" strike="noStrike" baseline="-25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related Innovation: 160W HT PEM Power Plan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1635120"/>
            <a:ext cx="506736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The High Temperature Proton Exchange Membrane Power Plant is portable, low maintenance, has a long lifetime, is a stand alone unit that is ideal for remote areas, field expeditions and backup emergency power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ther advantages include: low cost consumables (water-methanol), low consumption rates (2 gm/minute), expected continuous use lifetime &gt;20,000 hours (&gt;2 yea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re commercial installation with capacity 300W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A demonstration unit is in operation in the exhibition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159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52280" y="1447920"/>
            <a:ext cx="4996080" cy="4147920"/>
            <a:chOff x="152280" y="1447920"/>
            <a:chExt cx="4996080" cy="414792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865800" y="1919160"/>
              <a:ext cx="4256640" cy="30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flipV="1">
              <a:off x="662040" y="3804840"/>
              <a:ext cx="1427400" cy="1508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5313240"/>
              <a:ext cx="101952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c0504d"/>
                  </a:solidFill>
                  <a:latin typeface="Times New Roman"/>
                </a:rPr>
                <a:t>Gas injecto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497320" y="3144240"/>
              <a:ext cx="917640" cy="2073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85680" y="5218920"/>
              <a:ext cx="132552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c0504d"/>
                  </a:solidFill>
                  <a:latin typeface="Times New Roman"/>
                </a:rPr>
                <a:t>Syngas supply l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171440" y="1636200"/>
              <a:ext cx="611640" cy="1508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71800" y="1447920"/>
              <a:ext cx="1427400" cy="1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c0504d"/>
                  </a:solidFill>
                  <a:latin typeface="Times New Roman"/>
                </a:rPr>
                <a:t>Syngas generator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332600" y="2955960"/>
              <a:ext cx="0" cy="2356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22840" y="5313240"/>
              <a:ext cx="132552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c0504d"/>
                  </a:solidFill>
                  <a:latin typeface="Times New Roman"/>
                </a:rPr>
                <a:t>Syngas generat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" name=""/>
          <p:cNvGraphicFramePr/>
          <p:nvPr/>
        </p:nvGraphicFramePr>
        <p:xfrm>
          <a:off x="5334120" y="2643120"/>
          <a:ext cx="3614760" cy="2287800"/>
        </p:xfrm>
        <a:graphic>
          <a:graphicData uri="http://schemas.openxmlformats.org/drawingml/2006/table">
            <a:tbl>
              <a:tblPr/>
              <a:tblGrid>
                <a:gridCol w="1766880"/>
                <a:gridCol w="1060200"/>
                <a:gridCol w="7876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F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E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NG + Syn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O, g/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H, g/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, g/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.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, g/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3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0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Fuel consumption, m</a:t>
                      </a:r>
                      <a:r>
                        <a:rPr b="0" lang="en-US" sz="1400" spc="-1" strike="noStrike" baseline="30000">
                          <a:solidFill>
                            <a:srgbClr val="3333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/10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0" y="79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ASEL” minivan equipped with syngas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63656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SEL – technology that can be fitted to any gasoline and other non-diesel internal combustion engines to increase fuel efficiency and decrease e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STC: YESTERDAY, TODAY,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Assistance to Institutes in commercialization of developed technologies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Building on these past successes in Hydrogen Technologies ISTC is preparing a new Targeted Initiative “Syngas in power generation and transport”. The proposal will be sent to ISTC Parties for consideration at the next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371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14:30Z</dcterms:created>
  <dc:creator>Владимир Помогаев</dc:creator>
  <dc:description/>
  <dc:language>en-US</dc:language>
  <cp:lastModifiedBy>Emelyanov</cp:lastModifiedBy>
  <dcterms:modified xsi:type="dcterms:W3CDTF">2009-12-08T07:05:06Z</dcterms:modified>
  <cp:revision>154</cp:revision>
  <dc:subject/>
  <dc:title>Slide 1</dc:title>
</cp:coreProperties>
</file>