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9047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FD2E-12C2-4B92-8742-20E18881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8931-E872-447B-A291-F1DB49E2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9500-F333-4A6F-803A-CE8148F8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82E5-FA41-4141-BB0B-3A55F049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6937-2FD5-486C-AB8C-C5FD86F2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7C98-F6A3-427B-9795-7F9A9FAF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C9A0-C653-4DD1-896D-4EFEBC34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1FAB-B208-4FC7-BFF3-C60EE2AC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D35A-602F-4A91-9C64-B7BC7C79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FD82-379B-42F1-B544-64304461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E0AF-FD4B-4C96-8DCB-F8CFB478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4309-91A0-4BE8-BF5E-E76C7D07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1A8D-EDAD-4C6D-8079-4073D36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65D3-7A58-4E8E-B13A-21869FE8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B0E3-4BDC-497C-8BCA-21A47A5D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5AFB-117D-4974-99C2-79855D58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44C5-4373-419C-A18B-4100BD0F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E8B3-F40D-4193-9AC5-D149664A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BF92-8649-4DF6-A97D-8C878C9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7201-B6AA-497C-A010-FAA2DD9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78B8-D69E-48D9-88F5-9352F130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50B9-81CD-44F4-8499-303D1CC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BD02-B09B-46C1-B231-2A562E8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0C28-1B26-4B18-BF46-3FB0E2CD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7697-7CC9-4DF9-AE56-03A48676A3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CECB-0990-4455-ABEC-58ED5F5B0A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Значение МНТЦ для других стран СНГ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кадемик Р. Мартирося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зид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7238880" y="0"/>
          <a:ext cx="19051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0"/>
                    <a:ext cx="19051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4038480" y="54100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циональная Академия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спублики Арм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9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Финансирование партнерских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проектов (млн. долл. США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538200" y="1216080"/>
          <a:ext cx="8334360" cy="555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200" y="1216080"/>
                    <a:ext cx="833436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C2A3-26AB-44DB-A09A-32B36E1499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Инициативы по коммерциализац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762120" y="1143000"/>
          <a:ext cx="7467480" cy="5637240"/>
        </p:xfrm>
        <a:graphic>
          <a:graphicData uri="http://schemas.openxmlformats.org/drawingml/2006/table">
            <a:tbl>
              <a:tblPr/>
              <a:tblGrid>
                <a:gridCol w="3240000"/>
                <a:gridCol w="2246400"/>
                <a:gridCol w="19810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 СН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оек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и-р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8 640 1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824 4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ыргызст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7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B085-9D17-45F0-8A73-14BE5DCA5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Основные результаты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2860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Общая сумма финансирования проектов СНГ по всем категориям составляет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178.38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млн. долл. США для более чем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670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проектов.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Общая сумма финансирования партнерских проектов СНГ составляет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36.37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млн. долл. США для более чем </a:t>
            </a: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110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проектов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Осуществляется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4 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Инициативы по коммерциализации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Количество ученых-бенефициаров из СНГ с начала деятельности составляет около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16,500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Меморандумы о взаимопонимании по софинансированию были подписаны с Арменией, Беларусью, Грузией, Кыргызстаном, Таджикиста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FAB0-5586-4D2C-98FF-20555A0367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Взгляд в будущее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22860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181080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ческое расши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лечение молодых специалистов к участию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оек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ые лабора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числа партн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расходов на оборудование и материа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финанс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вые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иональное сотрудни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ль региональных отде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F59F-219F-4D89-9E4A-55555968F0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СПАСИБО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1905120"/>
            <a:ext cx="7543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адемик Радик Мартирос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ид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циональной академии на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публики Арм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пект Маршала Баграмян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2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реван, Армения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(374 10)-52-70-31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374 10)-58-45-8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-mail: president@sci.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sci.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F0DBF-77D2-4121-BC0F-9B062900C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Начало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228600" y="118296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АРМЕНИ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– Ереванский физический институт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 ноября 1995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БЕЛАРУСЬ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ститут радиационных физико-химических пробле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 марта 1995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ГРУЗИЯ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билисский государственный университет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учно-производственный комплекс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«Электронная техника» - 1 сентября 1994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КАЗАХСТА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Национальный ядерный центр Республики Казахстан / Институт атомной энерги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 августа 1995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КЫРГЫЗСТА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ыргызско-Российский Славянский университет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 ноября 1996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Arial"/>
              </a:rPr>
              <a:t>ТАДЖИКИСТАН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– Физико-технический институт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 августа 2003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D63B-30AF-44ED-8446-789CFF802B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Количество поданных 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проектов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609480" y="1371600"/>
          <a:ext cx="8091720" cy="517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371600"/>
                    <a:ext cx="809172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8841-1196-4B9C-A8D8-38CEEAA0C2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1643040" y="1676520"/>
          <a:ext cx="602460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3040" y="1676520"/>
                    <a:ext cx="6024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-152280" y="304920"/>
            <a:ext cx="74674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Объем финансирования проектов (млн. долл. С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6248520"/>
            <a:ext cx="7238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F162-05F4-4812-9DBF-C60073D2F5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304920" y="1523880"/>
          <a:ext cx="8534160" cy="495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85341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380880" y="3808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намика финансир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лн. долл. С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08FB-5EAB-4A22-AC30-80B52B951B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533520" y="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намика финансир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млн. долл. С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04920" y="1143000"/>
          <a:ext cx="8610480" cy="560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43000"/>
                    <a:ext cx="861048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CBBD-2635-4F17-9976-07601E3160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Финансирование по технологическим областям 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(млн. долл. США)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34960" y="1459080"/>
          <a:ext cx="8013600" cy="438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960" y="1459080"/>
                    <a:ext cx="801360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 flipV="1" rot="10800000">
            <a:off x="-3240" y="5882400"/>
            <a:ext cx="914400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/Х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Сельское хозяйство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ИО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Биотехнологии и науки о жизни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ХИМ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Химия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, ЭКО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Экология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Яд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Ядерные реакторы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еС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Термоядерный синтез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НФ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Средства информации и связи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ИП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КИП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Т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Производственные технологии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А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Материаловедение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Е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Медицин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еядерная энергетика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– Прочие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ИЗ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– Физика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ТРН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смич., возд., наземный транспо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AF7A-A80B-47EC-A172-05FC2BC758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Финансирование проектов по Программе поддержки коммуникации 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dfdef6"/>
                </a:solidFill>
                <a:latin typeface="Arial"/>
              </a:rPr>
              <a:t>тысячи долл. США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609480" y="1905120"/>
          <a:ext cx="8056800" cy="4552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905120"/>
                    <a:ext cx="80568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F965-A75F-4D46-AB63-8B72867CD6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Программы поддержки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 txBox="1"/>
          <p:nvPr/>
        </p:nvSpPr>
        <p:spPr>
          <a:xfrm>
            <a:off x="380880" y="1600200"/>
            <a:ext cx="83059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ка командиров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ка патент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а научных и рабочих семина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ие квалифик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сурсные цент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C6DF-C5E0-48B9-BB94-59FDC89599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6:28:13Z</dcterms:created>
  <dc:creator/>
  <dc:description/>
  <dc:language>en-US</dc:language>
  <cp:lastModifiedBy>Leonova</cp:lastModifiedBy>
  <dcterms:modified xsi:type="dcterms:W3CDTF">2009-12-03T08:57:10Z</dcterms:modified>
  <cp:revision>60</cp:revision>
  <dc:subject/>
  <dc:title> The Value of ISTC for the Other Countries of the CIS</dc:title>
</cp:coreProperties>
</file>