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F27A3F1-8DE8-4B79-AD92-87EB86477D91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74C9FD6-FCA1-4B79-B829-A08ABEF5F8B6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C21-9072-4732-8DF3-51931B57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2AA8-7D4A-40F7-9EB3-8AFE64EE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EA1-1B74-46C9-A7B3-86B4B5B0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A31-3873-4C69-93CB-9389C136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FD5-BBAF-4D46-9742-992CA085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A72-928D-4377-B4BB-4FF16BF9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3D4-E70F-473A-A31A-F75B00D0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7D0-1513-4A0C-8E06-5B364618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D61-2369-4734-A4DF-C8892396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F9D-42FA-4C9A-B16F-F09DBB7C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3521-210E-4354-8DFB-C5CC793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F77-DAEE-47FC-95A2-F717DC1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July 8-10, 2009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45th ISTC-SAC Meeting Repor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502F-E778-4694-8B63-8E49E6CA7EE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0BA1-D5A9-4A4D-9CFE-867146A7C40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26028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Конференция по случаю 15-летнего юбилея МНТЦ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ff"/>
                </a:solidFill>
                <a:latin typeface="Arial Unicode MS"/>
              </a:rPr>
              <a:t>“</a:t>
            </a:r>
            <a:r>
              <a:rPr b="1" lang="ru-RU" sz="3300" spc="-1" strike="noStrike">
                <a:solidFill>
                  <a:srgbClr val="0000ff"/>
                </a:solidFill>
                <a:latin typeface="Arial Unicode MS"/>
              </a:rPr>
              <a:t>Важность международного научно-технического сотрудничества в России и других странах СНГ”</a:t>
            </a:r>
            <a:endParaRPr b="0" lang="en-US" sz="3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35002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10 декабря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2009</a:t>
            </a: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 г.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Москва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</a:rPr>
              <a:t>СУГИМОТО Юн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редседатель Научно-консультативного комитет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Международного научно-технического центра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6ED1-4A26-4BA5-93DF-080A39B2974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еятельность НКК сегодня и в будущем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90360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2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инар НКК по «Борьбе с инфекционными заболеваниями» в сентябре 2009 г., в Иркутске прошел успешно и оказался своевременным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83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83480" indent="-483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ное сотрудничество по другим направлениям деятельности МНТЦ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КК пытается свести рассматриваемые проекты, которые не были профинансированы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заинтересованными отраслями промышленности, например, добавляя комментарии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Секретариат МНТЦ мог координировать в рамках программы партнерства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5EB8-27AF-42A6-ABAC-4D20D0C096A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1080" y="128160"/>
            <a:ext cx="95061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собая благодарность за приверженность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764640"/>
            <a:ext cx="864396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екретариату МНТЦ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вету управляющих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авительствам и Институтам стран-участниц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нститутам России и СНГ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Unicode MS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</a:rPr>
              <a:t>[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вшим и нынешним членам НКК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пония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1" lang="en-US" sz="1800" spc="-1" strike="noStrike">
                <a:solidFill>
                  <a:srgbClr val="00b050"/>
                </a:solidFill>
                <a:latin typeface="Arial Unicode MS"/>
              </a:rPr>
              <a:t>(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едседатели и Сопредседатели</a:t>
            </a:r>
            <a:r>
              <a:rPr b="1" lang="en-US" sz="1800" spc="-1" strike="noStrike">
                <a:solidFill>
                  <a:srgbClr val="00b050"/>
                </a:solidFill>
                <a:latin typeface="Arial Unicode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r. Hitoshi Iizumi, Dr. Shinzo Saitoh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r. Hiroshi Maekawa,  Dr. Yoshinori Miyazaki, Dr. Yukio Togashi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r.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Yutaka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Murakami, Dr. 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Masayuki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Nakagawa, Dr.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</a:rPr>
              <a:t>Yasushi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Seki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r. Jun Sugimoto        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of. Antonio Zicchici, Prof. Haefele Wolf,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</a:rPr>
              <a:t>Prof. Jean-Pierre Contzen,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r. Alain Pompidou,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</a:rPr>
              <a:t>Prof. Andre Syrota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веция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: Dr. Tor Larss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: Dr. Gail Cassell , Dr. Thomas Owens, Dr. Frederick Heineken 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</a:rPr>
              <a:t>Dr. Steven Gitomer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r. Diana Snyder, 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Dr. Upendra Rohatgi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ада </a:t>
            </a:r>
            <a:r>
              <a:rPr b="1" lang="de-DE" sz="1800" spc="-1" strike="noStrike">
                <a:solidFill>
                  <a:srgbClr val="000000"/>
                </a:solidFill>
                <a:latin typeface="Arial Unicode MS"/>
              </a:rPr>
              <a:t>: Dr. Konstantin Volchek,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of. Henry Mantsch,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я </a:t>
            </a:r>
            <a:r>
              <a:rPr b="1" lang="sv-SE" sz="18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</a:rPr>
              <a:t>Prof. </a:t>
            </a:r>
            <a:r>
              <a:rPr b="1" lang="sv-SE" sz="1800" spc="-1" strike="noStrike">
                <a:solidFill>
                  <a:srgbClr val="000000"/>
                </a:solidFill>
                <a:latin typeface="Arial Unicode MS"/>
              </a:rPr>
              <a:t>Evgeniy Avrorin,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of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Yuri Trutnev,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0" descr="sIMG_3037"/>
          <p:cNvPicPr/>
          <p:nvPr/>
        </p:nvPicPr>
        <p:blipFill>
          <a:blip r:embed="rId1"/>
          <a:stretch/>
        </p:blipFill>
        <p:spPr>
          <a:xfrm>
            <a:off x="0" y="1733400"/>
            <a:ext cx="1589040" cy="2727360"/>
          </a:xfrm>
          <a:prstGeom prst="rect">
            <a:avLst/>
          </a:prstGeom>
          <a:ln w="0">
            <a:noFill/>
          </a:ln>
        </p:spPr>
      </p:pic>
      <p:sp>
        <p:nvSpPr>
          <p:cNvPr id="81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CE67-7FD8-4DF6-8933-0D4ADF808CE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1439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пасибо</a:t>
            </a:r>
            <a:r>
              <a:rPr b="1" lang="en-US" sz="4000" spc="-1" strike="noStrike">
                <a:solidFill>
                  <a:srgbClr val="0000ff"/>
                </a:solidFill>
                <a:latin typeface="Arial Unicode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正方形/長方形 9"/>
          <p:cNvSpPr/>
          <p:nvPr/>
        </p:nvSpPr>
        <p:spPr>
          <a:xfrm>
            <a:off x="0" y="1290600"/>
            <a:ext cx="15397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テキスト ボックス 10"/>
          <p:cNvSpPr/>
          <p:nvPr/>
        </p:nvSpPr>
        <p:spPr>
          <a:xfrm>
            <a:off x="357120" y="6005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томер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テキスト ボックス 11"/>
          <p:cNvSpPr/>
          <p:nvPr/>
        </p:nvSpPr>
        <p:spPr>
          <a:xfrm>
            <a:off x="1692360" y="602136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цен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テキスト ボックス 12"/>
          <p:cNvSpPr/>
          <p:nvPr/>
        </p:nvSpPr>
        <p:spPr>
          <a:xfrm>
            <a:off x="2627280" y="602136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рорин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テキスト ボックス 14"/>
          <p:cNvSpPr/>
          <p:nvPr/>
        </p:nvSpPr>
        <p:spPr>
          <a:xfrm>
            <a:off x="3492360" y="602136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рота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テキスト ボックス 15"/>
          <p:cNvSpPr/>
          <p:nvPr/>
        </p:nvSpPr>
        <p:spPr>
          <a:xfrm>
            <a:off x="4211640" y="602136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лена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テキスト ボックス 16"/>
          <p:cNvSpPr/>
          <p:nvPr/>
        </p:nvSpPr>
        <p:spPr>
          <a:xfrm>
            <a:off x="4859280" y="602136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гимото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テキスト ボックス 17"/>
          <p:cNvSpPr/>
          <p:nvPr/>
        </p:nvSpPr>
        <p:spPr>
          <a:xfrm>
            <a:off x="5740560" y="600084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аджи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テキスト ボックス 18"/>
          <p:cNvSpPr/>
          <p:nvPr/>
        </p:nvSpPr>
        <p:spPr>
          <a:xfrm>
            <a:off x="6526080" y="600084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утнев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テキスト ボックス 19"/>
          <p:cNvSpPr/>
          <p:nvPr/>
        </p:nvSpPr>
        <p:spPr>
          <a:xfrm>
            <a:off x="7311960" y="600084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лчек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テキスト ボックス 20"/>
          <p:cNvSpPr/>
          <p:nvPr/>
        </p:nvSpPr>
        <p:spPr>
          <a:xfrm>
            <a:off x="8143920" y="600084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нтч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図 19" descr="IMG_4213.2.jpg"/>
          <p:cNvPicPr/>
          <p:nvPr/>
        </p:nvPicPr>
        <p:blipFill>
          <a:blip r:embed="rId2"/>
          <a:stretch/>
        </p:blipFill>
        <p:spPr>
          <a:xfrm>
            <a:off x="1547640" y="1268280"/>
            <a:ext cx="7444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B78A-DC88-44EE-BE94-0B4A17E4ADFD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Unicode MS"/>
              </a:rPr>
              <a:t>Обзор деятельности НКК </a:t>
            </a:r>
            <a:r>
              <a:rPr b="1" lang="en-US" sz="3600" spc="-1" strike="noStrike">
                <a:solidFill>
                  <a:srgbClr val="0000ff"/>
                </a:solidFill>
                <a:latin typeface="Arial Unicode MS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285560"/>
            <a:ext cx="8177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00"/>
                </a:solidFill>
                <a:latin typeface="Arial Unicode MS"/>
              </a:rPr>
              <a:t>Роль НКК</a:t>
            </a:r>
            <a:r>
              <a:rPr b="1" lang="ja-JP" sz="3400" spc="-1" strike="noStrike">
                <a:solidFill>
                  <a:srgbClr val="990000"/>
                </a:solidFill>
                <a:latin typeface="Arial Unicode MS"/>
              </a:rPr>
              <a:t>：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 Unicode MS"/>
              </a:rPr>
              <a:t>Научно-консультативный комитет обеспечивает МНТЦ независимую, научную оценку предложений по проектам</a:t>
            </a:r>
            <a:r>
              <a:rPr b="1" lang="en-US" sz="30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Arial Unicode MS"/>
              </a:rPr>
              <a:t>НКК </a:t>
            </a:r>
            <a:r>
              <a:rPr b="1" lang="en-US" sz="30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Arial Unicode MS"/>
              </a:rPr>
              <a:t> механизм независимой оценки проектов, защищенны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1" lang="ru-RU" sz="3000" spc="-1" strike="noStrike">
                <a:solidFill>
                  <a:srgbClr val="000000"/>
                </a:solidFill>
                <a:latin typeface="Arial Unicode MS"/>
              </a:rPr>
              <a:t> от лоббизма</a:t>
            </a:r>
            <a:r>
              <a:rPr b="1" lang="en-US" sz="30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Arial Unicode MS"/>
              </a:rPr>
              <a:t>Экспертиза НКК – это один из наиболее фундаментальных механизмов контроля качества МНТЦ</a:t>
            </a:r>
            <a:r>
              <a:rPr b="1" lang="en-US" sz="3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3235-F2EE-4751-9414-239DF003321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Unicode MS"/>
              </a:rPr>
              <a:t>Обзор деятельности НКК </a:t>
            </a:r>
            <a:r>
              <a:rPr b="1" lang="en-US" sz="3600" spc="-1" strike="noStrike">
                <a:solidFill>
                  <a:srgbClr val="0000ff"/>
                </a:solidFill>
                <a:latin typeface="Arial Unicode MS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2844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990000"/>
                </a:solidFill>
                <a:latin typeface="Arial Unicode MS"/>
              </a:rPr>
              <a:t>еятельность НКК</a:t>
            </a:r>
            <a:r>
              <a:rPr b="1" lang="ja-JP" sz="3600" spc="-1" strike="noStrike">
                <a:solidFill>
                  <a:srgbClr val="990000"/>
                </a:solidFill>
                <a:latin typeface="Arial Unicode MS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-30852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Обзор предложений МНТЦ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Регулярные проекты</a:t>
            </a: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2. 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Рекомендации и/или консультирование Совета управляющих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3. 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Семинары НКК</a:t>
            </a: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12 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семинаров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было организовано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4. 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Обзор завершенных проектов</a:t>
            </a: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ачат с </a:t>
            </a: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2009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 на </a:t>
            </a: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2010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г.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5. 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Обзор и комментарии новых технических инициатив таких, как целевые инициативы и программных подход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  <a:p>
            <a:pPr marL="3085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Unicode MS"/>
              </a:rPr>
              <a:t>6. </a:t>
            </a:r>
            <a:r>
              <a:rPr b="1" lang="ru-RU" sz="3100" spc="-1" strike="noStrike">
                <a:solidFill>
                  <a:srgbClr val="000000"/>
                </a:solidFill>
                <a:latin typeface="Arial Unicode MS"/>
              </a:rPr>
              <a:t>Другие аналогичные вопросы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CD76-B40E-4303-A6F3-80FE382FFA4D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Unicode MS"/>
              </a:rPr>
              <a:t>Обзор деятельности НКК </a:t>
            </a:r>
            <a:r>
              <a:rPr b="1" lang="en-US" sz="3600" spc="-1" strike="noStrike">
                <a:solidFill>
                  <a:srgbClr val="0000ff"/>
                </a:solidFill>
                <a:latin typeface="Arial Unicode MS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903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Unicode MS"/>
              </a:rPr>
              <a:t>Основные направления за 15 лет</a:t>
            </a:r>
            <a:r>
              <a:rPr b="1" lang="en-US" sz="3600" spc="-1" strike="noStrike">
                <a:solidFill>
                  <a:srgbClr val="990000"/>
                </a:solidFill>
                <a:latin typeface="Arial Unicode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остоянное улучшение качества предложений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Диверсифика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о-технических областей предложений по проектам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Улучшение сотрудничества с национальными институтам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Улучшение сотрудничества с иностранными коллабораторам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Улучшение взаимодействия с международными программами такими, как Рамочными программами ЕС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Четкая фокусировка Семинаров НК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на глобальные потребности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6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Unicode MS"/>
              </a:rPr>
              <a:t>Семинары НКК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0920" y="692280"/>
          <a:ext cx="8715240" cy="5987880"/>
        </p:xfrm>
        <a:graphic>
          <a:graphicData uri="http://schemas.openxmlformats.org/drawingml/2006/table">
            <a:tbl>
              <a:tblPr/>
              <a:tblGrid>
                <a:gridCol w="599760"/>
                <a:gridCol w="2828880"/>
                <a:gridCol w="5286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Место и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Саров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:1998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Нoвые подходы к ядерным топливным циклам и схемам захоронения от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Снежинск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: 1999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Реабилитация больших террито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. Волга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: 2000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более эффективному использованию результатов исследов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Новосибирск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: 2001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даментальные науки в деятельности МНТ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Санкт-Петербург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: 200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о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Москва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: 200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ка и компьют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Екатеринбург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: 2004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жения в хими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тероциклические соединени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лиз и полимеры как движущая с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Москва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: 2005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-топливо в чистом производстве электроэнергии и транспор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Санкт-Петербург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 : 200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тенденции в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тронно-эмиссион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й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омограф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Нижний Новгород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:</a:t>
                      </a:r>
                      <a:r>
                        <a:rPr b="1" lang="ja-JP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　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00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овой ядерный топливный цикл для 21 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Москва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:</a:t>
                      </a:r>
                      <a:r>
                        <a:rPr b="1" lang="ja-JP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　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00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тенденции в химической токсик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Иркутск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: 200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ьба с глобальными инфекц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Arial Unicode MS"/>
                        </a:rPr>
                        <a:t>Новосибирск</a:t>
                      </a: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Arial Unicode MS"/>
                        </a:rPr>
                        <a:t>: 2010.9 (?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Новые перспективы в физике высоких энерг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8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Unicode MS"/>
              </a:rPr>
              <a:t>Значение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0000ff"/>
                </a:solidFill>
                <a:latin typeface="Arial Unicode MS"/>
              </a:rPr>
              <a:t>еждународных семинаров НКК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2152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 Unicode MS"/>
              </a:rPr>
              <a:t>Цели</a:t>
            </a:r>
            <a:r>
              <a:rPr b="1" lang="en-US" sz="2800" spc="-1" strike="noStrike">
                <a:solidFill>
                  <a:srgbClr val="990000"/>
                </a:solidFill>
                <a:latin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Развивать сотрудничество между учеными из разных стран и СН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грировать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ученых из С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в международное сообщество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ы недавних семинаров НКК – 12 результатов</a:t>
            </a:r>
            <a:r>
              <a:rPr b="1" lang="en-US" sz="2800" spc="-1" strike="noStrike">
                <a:solidFill>
                  <a:srgbClr val="990000"/>
                </a:solidFill>
                <a:latin typeface="Arial Unicode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Борьба с глобальными инфекциями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одился 21-25 сентября 2009 г. в Иркутске, участвовало 130 человек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а высоко оценена своевременность семинара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ий научный уровень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народное и российское участие, а также хорошие презентации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одые ученые также принимали участие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а организована специальная сессия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 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молодых ученых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о ее итогам были вручены призы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йская исследовательская группа получила приглашение участвовать в двух европейски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ах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КК принял решение о проведен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ого семинара/конференции 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ьном институте инфек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онных заболеваний (Москва)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жды в год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699080" y="4929120"/>
            <a:ext cx="4078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F87D-F6DE-48CE-813E-567B7C6A9913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Arial"/>
              </a:rPr>
              <a:t>Почему научное сотрудничество через МНТЦ необходимо России и СНГ</a:t>
            </a:r>
            <a:r>
              <a:rPr b="1" lang="en-US" sz="3400" spc="-1" strike="noStrike">
                <a:solidFill>
                  <a:srgbClr val="0000ff"/>
                </a:solidFill>
                <a:latin typeface="Arial Unicode MS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3320" y="1571760"/>
            <a:ext cx="8715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о-техническое сотрудничество – это краеугольный камень в дружественных отношениях между нациями и государствами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вестирование в науку и технику – это предпосылка для быстрого развития стран, в особенности тех, которые претерпели значительные политические и социальные преобразования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ое сотрудничество ускоряет эти процессы и повышает их эффективность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D819-2106-403B-A843-38E389CDA251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Arial"/>
              </a:rPr>
              <a:t>Почему научное сотрудничество через МНТЦ необходимо России и СНГ</a:t>
            </a:r>
            <a:r>
              <a:rPr b="1" lang="en-US" sz="3400" spc="-1" strike="noStrike">
                <a:solidFill>
                  <a:srgbClr val="0000ff"/>
                </a:solidFill>
                <a:latin typeface="Arial Unicode MS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3320" y="1571760"/>
            <a:ext cx="8715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лемы глобального или регионального характера могут быть решены только благодаря хорошему международному сотрудничеству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чно-техническое сотрудничество в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вствительных сферах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”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это лучший механизм построения доверительных отношений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ТЦ предлагает удобные, эффективные и продуктивные организационные и правовые процедуры для решения вышеуказанных задач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0F0E-8FF2-48A4-9278-F6CB95E13BB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еятельность НКК сегодня и в будущем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КК комментирует предложения, отклоненные в процессе рассмотрения, чтобы разъяснить научные и технические недостатки и улучшить будущие предложения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434160" indent="-43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КК недавно начал рассмотрение завершенных проектов на предмет выполнения основных задач, вклада в научную / практическую сферы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ространения результатов и сотрудничества с иностраными институтами / институтами из СНГ;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о обсуждаемых в 2009 г.; планируемых в 2010 г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23:51:53Z</dcterms:created>
  <dc:creator>yseki</dc:creator>
  <dc:description/>
  <dc:language>en-US</dc:language>
  <cp:lastModifiedBy>Leonova</cp:lastModifiedBy>
  <dcterms:modified xsi:type="dcterms:W3CDTF">2009-12-09T16:49:48Z</dcterms:modified>
  <cp:revision>233</cp:revision>
  <dc:subject/>
  <dc:title>スライド 1</dc:title>
</cp:coreProperties>
</file>